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50013-9692-47FA-9635-A6301C09B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109688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400" y="3976200"/>
            <a:ext cx="109688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840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872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7120" y="14904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5480" y="14904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8400" y="39762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7120" y="39762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5480" y="39762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4AA-081B-497D-A6E0-588CDBB4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8400" y="1490400"/>
            <a:ext cx="1096884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C2B-0384-403F-84CC-60A42AEA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1096884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AA0-54CF-4FBA-8FBE-5AF1B419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CA3-ED1B-4D49-B43D-2C87115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5A7-F813-4939-BA91-550C539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8400" y="608400"/>
            <a:ext cx="1096884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9E7-BB8E-45C1-BF83-AB4C0E9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840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11F-18F9-4AC0-9E1E-D811DD24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8400" y="1490400"/>
            <a:ext cx="1096884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872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8AB-4D17-4101-8A3C-D548549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400" y="3976200"/>
            <a:ext cx="109688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AB8-8571-447E-A01F-4CAE7DB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109688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8400" y="3976200"/>
            <a:ext cx="109688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2E8-4098-4D11-B4AE-1AEB28FE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840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872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E60-D163-4785-B32C-979A97B8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7120" y="14904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5480" y="14904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8400" y="39762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7120" y="39762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5480" y="3976200"/>
            <a:ext cx="3531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45B-3554-4BD3-8160-A2082B58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1096884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8400" y="608400"/>
            <a:ext cx="1096884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840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4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8720" y="39762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840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8720" y="1490400"/>
            <a:ext cx="535248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8400" y="3976200"/>
            <a:ext cx="109688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8400" y="608400"/>
            <a:ext cx="1096884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8400" y="1490400"/>
            <a:ext cx="10968840" cy="47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1609560"/>
              </a:tabLst>
            </a:pPr>
            <a:r>
              <a:rPr b="0" lang="zh-CN" sz="1800" spc="148" strike="noStrike">
                <a:solidFill>
                  <a:srgbClr val="595959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●"/>
              <a:tabLst>
                <a:tab algn="l" pos="1609560"/>
              </a:tabLst>
            </a:pPr>
            <a:r>
              <a:rPr b="0" lang="zh-CN" sz="1600" spc="148" strike="noStrike">
                <a:solidFill>
                  <a:srgbClr val="595959"/>
                </a:solidFill>
                <a:latin typeface="Arial"/>
                <a:ea typeface="微软雅黑"/>
              </a:rPr>
              <a:t>第二级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●"/>
              <a:tabLst>
                <a:tab algn="l" pos="1609560"/>
              </a:tabLst>
            </a:pPr>
            <a:r>
              <a:rPr b="0" lang="zh-CN" sz="1600" spc="148" strike="noStrike">
                <a:solidFill>
                  <a:srgbClr val="595959"/>
                </a:solidFill>
                <a:latin typeface="Arial"/>
                <a:ea typeface="微软雅黑"/>
              </a:rPr>
              <a:t>第三级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Aft>
                <a:spcPts val="300"/>
              </a:spcAft>
              <a:buClr>
                <a:srgbClr val="595959"/>
              </a:buClr>
              <a:buFont typeface="Wingdings" charset="2"/>
              <a:buChar char=""/>
              <a:tabLst>
                <a:tab algn="l" pos="1609560"/>
              </a:tabLst>
            </a:pPr>
            <a:r>
              <a:rPr b="0" lang="zh-CN" sz="1400" spc="148" strike="noStrike">
                <a:solidFill>
                  <a:srgbClr val="595959"/>
                </a:solidFill>
                <a:latin typeface="Arial"/>
                <a:ea typeface="微软雅黑"/>
              </a:rPr>
              <a:t>第四级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Aft>
                <a:spcPts val="300"/>
              </a:spcAft>
              <a:buClr>
                <a:srgbClr val="595959"/>
              </a:buClr>
              <a:buFont typeface="Arial"/>
              <a:buChar char="•"/>
              <a:tabLst>
                <a:tab algn="l" pos="1609560"/>
              </a:tabLst>
            </a:pPr>
            <a:r>
              <a:rPr b="0" lang="zh-CN" sz="1400" spc="148" strike="noStrike">
                <a:solidFill>
                  <a:srgbClr val="595959"/>
                </a:solidFill>
                <a:latin typeface="Arial"/>
                <a:ea typeface="微软雅黑"/>
              </a:rPr>
              <a:t>第五级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12000" y="6314400"/>
            <a:ext cx="2699640" cy="3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15880" y="6314400"/>
            <a:ext cx="3959640" cy="3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8877600" y="6314400"/>
            <a:ext cx="2699640" cy="3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58"/>
          <p:cNvSpPr/>
          <p:nvPr/>
        </p:nvSpPr>
        <p:spPr>
          <a:xfrm>
            <a:off x="7854840" y="2879280"/>
            <a:ext cx="188460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740" spc="-1" strike="noStrike">
                <a:solidFill>
                  <a:schemeClr val="accent1"/>
                </a:solidFill>
                <a:latin typeface="华文新魏"/>
                <a:ea typeface="华文新魏"/>
              </a:rPr>
              <a:t>数制及其换算</a:t>
            </a:r>
            <a:endParaRPr b="0" lang="en-US" sz="374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连接符 5"/>
          <p:cNvCxnSpPr/>
          <p:nvPr/>
        </p:nvCxnSpPr>
        <p:spPr>
          <a:xfrm>
            <a:off x="5661720" y="3867480"/>
            <a:ext cx="6103440" cy="360"/>
          </a:xfrm>
          <a:prstGeom prst="straightConnector1">
            <a:avLst/>
          </a:prstGeom>
          <a:ln>
            <a:solidFill>
              <a:srgbClr val="58b6e5"/>
            </a:solidFill>
            <a:headEnd len="med" type="oval" w="med"/>
            <a:tailEnd len="med" type="oval" w="med"/>
          </a:ln>
        </p:spPr>
      </p:cxnSp>
      <p:sp>
        <p:nvSpPr>
          <p:cNvPr id="87" name="矩形 6"/>
          <p:cNvSpPr/>
          <p:nvPr/>
        </p:nvSpPr>
        <p:spPr>
          <a:xfrm>
            <a:off x="11856600" y="1989360"/>
            <a:ext cx="335160" cy="2878920"/>
          </a:xfrm>
          <a:prstGeom prst="rect">
            <a:avLst/>
          </a:prstGeom>
          <a:solidFill>
            <a:schemeClr val="accent1">
              <a:lumMod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335160" cy="2878920"/>
          </a:xfrm>
          <a:prstGeom prst="rect">
            <a:avLst/>
          </a:prstGeom>
          <a:solidFill>
            <a:schemeClr val="accent1">
              <a:lumMod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89" name="图片 8" descr=""/>
          <p:cNvPicPr/>
          <p:nvPr/>
        </p:nvPicPr>
        <p:blipFill>
          <a:blip r:embed="rId1"/>
          <a:stretch/>
        </p:blipFill>
        <p:spPr>
          <a:xfrm>
            <a:off x="-720" y="1707840"/>
            <a:ext cx="6059160" cy="378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5" descr=""/>
          <p:cNvPicPr/>
          <p:nvPr/>
        </p:nvPicPr>
        <p:blipFill>
          <a:blip r:embed="rId1"/>
          <a:stretch/>
        </p:blipFill>
        <p:spPr>
          <a:xfrm>
            <a:off x="0" y="4966200"/>
            <a:ext cx="2063880" cy="189144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3"/>
          <p:cNvSpPr/>
          <p:nvPr/>
        </p:nvSpPr>
        <p:spPr>
          <a:xfrm>
            <a:off x="503280" y="1235160"/>
            <a:ext cx="111848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六进制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Hexadecimal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六进位计数制简称为十六进制。十六进制数有十六个不同的数码符号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每个数码符号根据它在这个数中的数位，按“逢十六进一”来决定其实际的数值，权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即各数位的权是以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底的幂次方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用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H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表示十六进制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211176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7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76" name="直接连接符 18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77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78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79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5" descr=""/>
          <p:cNvPicPr/>
          <p:nvPr/>
        </p:nvPicPr>
        <p:blipFill>
          <a:blip r:embed="rId1"/>
          <a:stretch/>
        </p:blipFill>
        <p:spPr>
          <a:xfrm>
            <a:off x="0" y="4966200"/>
            <a:ext cx="2063880" cy="18914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3"/>
          <p:cNvSpPr/>
          <p:nvPr/>
        </p:nvSpPr>
        <p:spPr>
          <a:xfrm>
            <a:off x="503280" y="1235160"/>
            <a:ext cx="111848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制表示方式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区分不同数制的数，对于不同数制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据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可记作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如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(11101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(627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(E7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分别表示二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0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八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627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十六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E7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不用括号及下标的数据，一般默认为十进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们也习惯在一个数的后面加上字母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十进制）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进制）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八进制）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H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十六进制）来表示其前面的数据采用的数制。如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010B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二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01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E05H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十六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E05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211176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3" name="矩形 16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17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85" name="直接连接符 18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86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87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88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3"/>
          <p:cNvSpPr/>
          <p:nvPr/>
        </p:nvSpPr>
        <p:spPr>
          <a:xfrm>
            <a:off x="503280" y="1235160"/>
            <a:ext cx="1118484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非十进制数转换成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进位计数制按权展开式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位计数制逢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一，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进位计数制表示一位数所需要的符号数目，即基数。处在不同位置上的数字所代表的值是确定的，这个固定位上的值称为位权，简称“权”。各进位制中位权的值恰巧是基数的若干次幂。因此，任何一种数制表示的数都可以写成按权展开的多项式之和，相加后的结果即为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一个基数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值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=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i="1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-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-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0" i="1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0.</a:t>
            </a:r>
            <a:r>
              <a:rPr b="0" i="1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0" i="1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-m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i="1" lang="zh-CN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展开为，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N=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-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×r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n-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-2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×r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n-2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…+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×r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×r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-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×r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…+d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-m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×r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m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十进制数转换成十进制数的基本法则是按权展开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2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92" name="直接连接符 13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93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4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5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196" name="图片 21" descr=""/>
          <p:cNvPicPr/>
          <p:nvPr/>
        </p:nvPicPr>
        <p:blipFill>
          <a:blip r:embed="rId1"/>
          <a:stretch/>
        </p:blipFill>
        <p:spPr>
          <a:xfrm flipH="1">
            <a:off x="10139400" y="4966200"/>
            <a:ext cx="2052720" cy="1891440"/>
          </a:xfrm>
          <a:prstGeom prst="rect">
            <a:avLst/>
          </a:prstGeom>
          <a:ln w="0">
            <a:noFill/>
          </a:ln>
        </p:spPr>
      </p:pic>
      <p:sp>
        <p:nvSpPr>
          <p:cNvPr id="197" name="Line 34"/>
          <p:cNvSpPr/>
          <p:nvPr/>
        </p:nvSpPr>
        <p:spPr>
          <a:xfrm>
            <a:off x="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3"/>
          <p:cNvSpPr/>
          <p:nvPr/>
        </p:nvSpPr>
        <p:spPr>
          <a:xfrm>
            <a:off x="503280" y="1293120"/>
            <a:ext cx="1118484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非十进制数转换成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按权展开的方法，即把二进制数（或八进制数，或十六进制数）写成</a:t>
            </a:r>
            <a:r>
              <a:rPr b="0" lang="en-US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或</a:t>
            </a:r>
            <a:r>
              <a:rPr b="0" lang="en-US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0" lang="zh-CN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或</a:t>
            </a:r>
            <a:r>
              <a:rPr b="0" lang="en-US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16</a:t>
            </a:r>
            <a:r>
              <a:rPr b="0" lang="zh-CN" sz="213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的各次幂之和的形式，然后计算其结果即为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是将二进制、八进制和十六进制数转换为十进制数的计算过程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进制数转换为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将二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10.10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成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(110.101)</a:t>
            </a:r>
            <a:r>
              <a:rPr b="0" lang="en-US" sz="1868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1×2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0×2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1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0×2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2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3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4+2+0+0.5+0+0.125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(6.625)</a:t>
            </a:r>
            <a:r>
              <a:rPr b="0" lang="en-US" sz="1868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68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6.625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二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10.10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为十进制数的结果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6.625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3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4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201" name="直接连接符 15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202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03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04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3"/>
          <p:cNvSpPr/>
          <p:nvPr/>
        </p:nvSpPr>
        <p:spPr>
          <a:xfrm>
            <a:off x="335160" y="936360"/>
            <a:ext cx="111848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进制数转换为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试将八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成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(123)</a:t>
            </a:r>
            <a:r>
              <a:rPr b="0" lang="en-US" sz="1868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1×8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2×8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+3×8</a:t>
            </a:r>
            <a:r>
              <a:rPr b="0" lang="en-US" sz="1868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64+16+3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=(83)</a:t>
            </a:r>
            <a:r>
              <a:rPr b="0" lang="en-US" sz="1868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en-US" sz="1870" spc="9" strike="noStrike">
                <a:solidFill>
                  <a:srgbClr val="000000"/>
                </a:solidFill>
                <a:latin typeface="微软雅黑"/>
                <a:ea typeface="微软雅黑"/>
              </a:rPr>
              <a:t>83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八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为十进制数的结果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8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3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14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208" name="直接连接符 15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209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10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11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3"/>
          <p:cNvSpPr/>
          <p:nvPr/>
        </p:nvSpPr>
        <p:spPr>
          <a:xfrm>
            <a:off x="335160" y="936360"/>
            <a:ext cx="111848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六进制数转换为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将十六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BA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成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(2BA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2×16</a:t>
            </a: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+11×16</a:t>
            </a: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+10×16</a:t>
            </a: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512+176+1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(698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698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十六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BA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为十进制数的结果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698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14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215" name="直接连接符 15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216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17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18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335160" y="936360"/>
            <a:ext cx="111848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巩固练习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试将二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010.1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成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试将八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05.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成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试将十六进制数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AF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成十进制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4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222" name="直接连接符 15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223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24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25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3"/>
          <p:cNvSpPr/>
          <p:nvPr/>
        </p:nvSpPr>
        <p:spPr>
          <a:xfrm>
            <a:off x="243720" y="884880"/>
            <a:ext cx="11184840" cy="73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(111010.11)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1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0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0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1×2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2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32+16+8+0+2+0.5+0.2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(58.75)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58.7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(105.2)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1×8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0×8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5×8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+2×8</a:t>
            </a:r>
            <a:r>
              <a:rPr b="0" lang="en-US" sz="2129" spc="9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-1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64+0+5+0.2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(69.25)</a:t>
            </a:r>
            <a:r>
              <a:rPr b="0" lang="en-US" sz="2129" spc="9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r>
              <a:rPr b="0" lang="en-US" sz="2130" spc="9" strike="noStrike">
                <a:solidFill>
                  <a:srgbClr val="000000"/>
                </a:solidFill>
                <a:latin typeface="微软雅黑"/>
                <a:ea typeface="微软雅黑"/>
              </a:rPr>
              <a:t>=69.2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(2AF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2×16</a:t>
            </a: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+10×16</a:t>
            </a: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+15×16</a:t>
            </a: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29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512+160+1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(687)</a:t>
            </a:r>
            <a:r>
              <a:rPr b="0" lang="en-US" sz="2129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=687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4"/>
          <p:cNvGrpSpPr/>
          <p:nvPr/>
        </p:nvGrpSpPr>
        <p:grpSpPr>
          <a:xfrm>
            <a:off x="3745080" y="475920"/>
            <a:ext cx="8286120" cy="816120"/>
            <a:chOff x="3745080" y="475920"/>
            <a:chExt cx="8286120" cy="816120"/>
          </a:xfrm>
        </p:grpSpPr>
        <p:cxnSp>
          <p:nvCxnSpPr>
            <p:cNvPr id="229" name="直接连接符 15"/>
            <p:cNvCxnSpPr/>
            <p:nvPr/>
          </p:nvCxnSpPr>
          <p:spPr>
            <a:xfrm>
              <a:off x="374508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230" name="任意多边形: 形状 10"/>
            <p:cNvSpPr/>
            <p:nvPr/>
          </p:nvSpPr>
          <p:spPr>
            <a:xfrm rot="2700000">
              <a:off x="101296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31" name="任意多边形: 形状 11"/>
            <p:cNvSpPr/>
            <p:nvPr/>
          </p:nvSpPr>
          <p:spPr>
            <a:xfrm rot="2700000">
              <a:off x="1073232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32" name="任意多边形: 形状 12"/>
            <p:cNvSpPr/>
            <p:nvPr/>
          </p:nvSpPr>
          <p:spPr>
            <a:xfrm rot="2700000">
              <a:off x="113346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4" name="文本框 158"/>
          <p:cNvSpPr/>
          <p:nvPr/>
        </p:nvSpPr>
        <p:spPr>
          <a:xfrm>
            <a:off x="7657920" y="2628720"/>
            <a:ext cx="1479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t">
            <a:spAutoFit/>
          </a:bodyPr>
          <a:p>
            <a:pPr>
              <a:lnSpc>
                <a:spcPct val="100000"/>
              </a:lnSpc>
            </a:pPr>
            <a:r>
              <a:rPr b="0" lang="zh-CN" sz="427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谢谢聆听</a:t>
            </a:r>
            <a:endParaRPr b="0" lang="en-US" sz="42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8"/>
          <p:cNvSpPr/>
          <p:nvPr/>
        </p:nvSpPr>
        <p:spPr>
          <a:xfrm>
            <a:off x="11856600" y="1989360"/>
            <a:ext cx="335160" cy="2878920"/>
          </a:xfrm>
          <a:prstGeom prst="rect">
            <a:avLst/>
          </a:prstGeom>
          <a:solidFill>
            <a:schemeClr val="accent1">
              <a:lumMod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236" name="图片 19" descr=""/>
          <p:cNvPicPr/>
          <p:nvPr/>
        </p:nvPicPr>
        <p:blipFill>
          <a:blip r:embed="rId1"/>
          <a:stretch/>
        </p:blipFill>
        <p:spPr>
          <a:xfrm>
            <a:off x="-480600" y="405720"/>
            <a:ext cx="7040880" cy="6451920"/>
          </a:xfrm>
          <a:prstGeom prst="rect">
            <a:avLst/>
          </a:prstGeom>
          <a:ln w="0">
            <a:noFill/>
          </a:ln>
        </p:spPr>
      </p:pic>
      <p:sp>
        <p:nvSpPr>
          <p:cNvPr id="237" name="矩形 20"/>
          <p:cNvSpPr/>
          <p:nvPr/>
        </p:nvSpPr>
        <p:spPr>
          <a:xfrm>
            <a:off x="0" y="0"/>
            <a:ext cx="335160" cy="2878920"/>
          </a:xfrm>
          <a:prstGeom prst="rect">
            <a:avLst/>
          </a:prstGeom>
          <a:solidFill>
            <a:schemeClr val="accent1">
              <a:lumMod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238" name="直接连接符 21"/>
          <p:cNvCxnSpPr/>
          <p:nvPr/>
        </p:nvCxnSpPr>
        <p:spPr>
          <a:xfrm>
            <a:off x="5663880" y="3620880"/>
            <a:ext cx="6103440" cy="360"/>
          </a:xfrm>
          <a:prstGeom prst="straightConnector1">
            <a:avLst/>
          </a:prstGeom>
          <a:ln>
            <a:solidFill>
              <a:srgbClr val="58b6e5"/>
            </a:solidFill>
            <a:headEnd len="med" type="oval" w="med"/>
            <a:tailEnd len="med" type="oval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335160" y="357120"/>
            <a:ext cx="489636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及其换算</a:t>
            </a:r>
            <a:r>
              <a:rPr b="0" lang="en-US" sz="2660" spc="-1" strike="noStrike">
                <a:solidFill>
                  <a:schemeClr val="lt1"/>
                </a:solidFill>
                <a:latin typeface="微软雅黑"/>
                <a:ea typeface="微软雅黑"/>
              </a:rPr>
              <a:t>--</a:t>
            </a:r>
            <a:r>
              <a:rPr b="0" lang="zh-CN" sz="2130" spc="-1" strike="noStrike">
                <a:solidFill>
                  <a:schemeClr val="lt1"/>
                </a:solidFill>
                <a:latin typeface="微软雅黑"/>
                <a:ea typeface="微软雅黑"/>
              </a:rPr>
              <a:t>教学目标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连接符 11"/>
          <p:cNvCxnSpPr/>
          <p:nvPr/>
        </p:nvCxnSpPr>
        <p:spPr>
          <a:xfrm>
            <a:off x="3731040" y="884520"/>
            <a:ext cx="8269200" cy="360"/>
          </a:xfrm>
          <a:prstGeom prst="straightConnector1">
            <a:avLst/>
          </a:prstGeom>
          <a:ln w="28575">
            <a:solidFill>
              <a:srgbClr val="6096e6"/>
            </a:solidFill>
          </a:ln>
        </p:spPr>
      </p:cxnSp>
      <p:sp>
        <p:nvSpPr>
          <p:cNvPr id="92" name="任意多边形: 形状 10"/>
          <p:cNvSpPr/>
          <p:nvPr/>
        </p:nvSpPr>
        <p:spPr>
          <a:xfrm rot="2700000">
            <a:off x="1011600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3" name="任意多边形: 形状 11"/>
          <p:cNvSpPr/>
          <p:nvPr/>
        </p:nvSpPr>
        <p:spPr>
          <a:xfrm rot="2700000">
            <a:off x="1071828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4" name="任意多边形: 形状 12"/>
          <p:cNvSpPr/>
          <p:nvPr/>
        </p:nvSpPr>
        <p:spPr>
          <a:xfrm rot="2700000">
            <a:off x="1132056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5" name="文本框 7"/>
          <p:cNvSpPr/>
          <p:nvPr/>
        </p:nvSpPr>
        <p:spPr>
          <a:xfrm>
            <a:off x="4250880" y="2330280"/>
            <a:ext cx="5745240" cy="1934640"/>
          </a:xfrm>
          <a:prstGeom prst="rect">
            <a:avLst/>
          </a:prstGeom>
          <a:noFill/>
          <a:ln>
            <a:solidFill>
              <a:srgbClr val="6096e6"/>
            </a:solidFill>
            <a:prstDash val="sysDot"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了解进制的含义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掌握二进制、十进制、八进制、十六进制数的表示方法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能够掌握二进制、八进制、十六进制数转换为十进制的方法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1527120" y="3046320"/>
            <a:ext cx="2385720" cy="527040"/>
            <a:chOff x="1527120" y="3046320"/>
            <a:chExt cx="2385720" cy="527040"/>
          </a:xfrm>
        </p:grpSpPr>
        <p:sp>
          <p:nvSpPr>
            <p:cNvPr id="97" name="矩形 22"/>
            <p:cNvSpPr/>
            <p:nvPr/>
          </p:nvSpPr>
          <p:spPr>
            <a:xfrm>
              <a:off x="1527120" y="3046320"/>
              <a:ext cx="1873080" cy="527040"/>
            </a:xfrm>
            <a:prstGeom prst="rect">
              <a:avLst/>
            </a:prstGeom>
            <a:solidFill>
              <a:srgbClr val="6096e6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13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知识目标</a:t>
              </a:r>
              <a:endParaRPr b="0" lang="en-US" sz="213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箭头: 右 1"/>
            <p:cNvSpPr/>
            <p:nvPr/>
          </p:nvSpPr>
          <p:spPr>
            <a:xfrm>
              <a:off x="3524400" y="3174480"/>
              <a:ext cx="388440" cy="287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solidFill>
                <a:srgbClr val="1d9ea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335160" y="357120"/>
            <a:ext cx="489636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及其换算</a:t>
            </a:r>
            <a:r>
              <a:rPr b="0" lang="en-US" sz="2660" spc="-1" strike="noStrike">
                <a:solidFill>
                  <a:schemeClr val="lt1"/>
                </a:solidFill>
                <a:latin typeface="微软雅黑"/>
                <a:ea typeface="微软雅黑"/>
              </a:rPr>
              <a:t>--</a:t>
            </a:r>
            <a:r>
              <a:rPr b="0" lang="zh-CN" sz="2130" spc="-1" strike="noStrike">
                <a:solidFill>
                  <a:schemeClr val="lt1"/>
                </a:solidFill>
                <a:latin typeface="微软雅黑"/>
                <a:ea typeface="微软雅黑"/>
              </a:rPr>
              <a:t>教学目标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接连接符 11"/>
          <p:cNvCxnSpPr/>
          <p:nvPr/>
        </p:nvCxnSpPr>
        <p:spPr>
          <a:xfrm>
            <a:off x="3731040" y="884520"/>
            <a:ext cx="8269200" cy="360"/>
          </a:xfrm>
          <a:prstGeom prst="straightConnector1">
            <a:avLst/>
          </a:prstGeom>
          <a:ln w="28575">
            <a:solidFill>
              <a:srgbClr val="6096e6"/>
            </a:solidFill>
          </a:ln>
        </p:spPr>
      </p:cxnSp>
      <p:sp>
        <p:nvSpPr>
          <p:cNvPr id="101" name="任意多边形: 形状 10"/>
          <p:cNvSpPr/>
          <p:nvPr/>
        </p:nvSpPr>
        <p:spPr>
          <a:xfrm rot="2700000">
            <a:off x="1011600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" name="任意多边形: 形状 11"/>
          <p:cNvSpPr/>
          <p:nvPr/>
        </p:nvSpPr>
        <p:spPr>
          <a:xfrm rot="2700000">
            <a:off x="1071828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3" name="任意多边形: 形状 12"/>
          <p:cNvSpPr/>
          <p:nvPr/>
        </p:nvSpPr>
        <p:spPr>
          <a:xfrm rot="2700000">
            <a:off x="1132056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4" name="文本框 7"/>
          <p:cNvSpPr/>
          <p:nvPr/>
        </p:nvSpPr>
        <p:spPr>
          <a:xfrm>
            <a:off x="4250880" y="2330280"/>
            <a:ext cx="5745240" cy="2302920"/>
          </a:xfrm>
          <a:prstGeom prst="rect">
            <a:avLst/>
          </a:prstGeom>
          <a:noFill/>
          <a:ln>
            <a:solidFill>
              <a:srgbClr val="6096e6"/>
            </a:solidFill>
            <a:prstDash val="sysDot"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培养学生逻辑运算能力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培养学生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析问题、解决问题的能力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养学生独立思考问题的能力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3"/>
          <p:cNvGrpSpPr/>
          <p:nvPr/>
        </p:nvGrpSpPr>
        <p:grpSpPr>
          <a:xfrm>
            <a:off x="1527120" y="3046320"/>
            <a:ext cx="2385720" cy="527040"/>
            <a:chOff x="1527120" y="3046320"/>
            <a:chExt cx="2385720" cy="527040"/>
          </a:xfrm>
        </p:grpSpPr>
        <p:sp>
          <p:nvSpPr>
            <p:cNvPr id="106" name="矩形 22"/>
            <p:cNvSpPr/>
            <p:nvPr/>
          </p:nvSpPr>
          <p:spPr>
            <a:xfrm>
              <a:off x="1527120" y="3046320"/>
              <a:ext cx="1873080" cy="527040"/>
            </a:xfrm>
            <a:prstGeom prst="rect">
              <a:avLst/>
            </a:prstGeom>
            <a:solidFill>
              <a:srgbClr val="6096e6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13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技能目标</a:t>
              </a:r>
              <a:endParaRPr b="0" lang="en-US" sz="213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箭头: 右 1"/>
            <p:cNvSpPr/>
            <p:nvPr/>
          </p:nvSpPr>
          <p:spPr>
            <a:xfrm>
              <a:off x="3524400" y="3174480"/>
              <a:ext cx="388440" cy="287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solidFill>
                <a:srgbClr val="1d9ea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"/>
          <p:cNvSpPr/>
          <p:nvPr/>
        </p:nvSpPr>
        <p:spPr>
          <a:xfrm>
            <a:off x="335160" y="357120"/>
            <a:ext cx="489636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及其换算</a:t>
            </a:r>
            <a:r>
              <a:rPr b="0" lang="en-US" sz="2660" spc="-1" strike="noStrike">
                <a:solidFill>
                  <a:schemeClr val="lt1"/>
                </a:solidFill>
                <a:latin typeface="微软雅黑"/>
                <a:ea typeface="微软雅黑"/>
              </a:rPr>
              <a:t>--</a:t>
            </a:r>
            <a:r>
              <a:rPr b="0" lang="zh-CN" sz="2130" spc="-1" strike="noStrike">
                <a:solidFill>
                  <a:schemeClr val="lt1"/>
                </a:solidFill>
                <a:latin typeface="微软雅黑"/>
                <a:ea typeface="微软雅黑"/>
              </a:rPr>
              <a:t>教学目标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接连接符 11"/>
          <p:cNvCxnSpPr/>
          <p:nvPr/>
        </p:nvCxnSpPr>
        <p:spPr>
          <a:xfrm>
            <a:off x="3731040" y="884520"/>
            <a:ext cx="8269200" cy="360"/>
          </a:xfrm>
          <a:prstGeom prst="straightConnector1">
            <a:avLst/>
          </a:prstGeom>
          <a:ln w="28575">
            <a:solidFill>
              <a:srgbClr val="6096e6"/>
            </a:solidFill>
          </a:ln>
        </p:spPr>
      </p:cxnSp>
      <p:sp>
        <p:nvSpPr>
          <p:cNvPr id="110" name="任意多边形: 形状 10"/>
          <p:cNvSpPr/>
          <p:nvPr/>
        </p:nvSpPr>
        <p:spPr>
          <a:xfrm rot="2700000">
            <a:off x="1011600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1" name="任意多边形: 形状 11"/>
          <p:cNvSpPr/>
          <p:nvPr/>
        </p:nvSpPr>
        <p:spPr>
          <a:xfrm rot="2700000">
            <a:off x="1071828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2" name="任意多边形: 形状 12"/>
          <p:cNvSpPr/>
          <p:nvPr/>
        </p:nvSpPr>
        <p:spPr>
          <a:xfrm rot="2700000">
            <a:off x="1132056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" name="文本框 7"/>
          <p:cNvSpPr/>
          <p:nvPr/>
        </p:nvSpPr>
        <p:spPr>
          <a:xfrm>
            <a:off x="4250880" y="2330280"/>
            <a:ext cx="5745240" cy="1564920"/>
          </a:xfrm>
          <a:prstGeom prst="rect">
            <a:avLst/>
          </a:prstGeom>
          <a:noFill/>
          <a:ln>
            <a:solidFill>
              <a:srgbClr val="6096e6"/>
            </a:solidFill>
            <a:prstDash val="sysDot"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lang="zh-CN" sz="187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通过练习数制之间的转换，让学生体验成功，提高学生的自信心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lang="zh-CN" sz="186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通过对数制及转换的学习，提高学生对计算机学习的兴趣</a:t>
            </a:r>
            <a:endParaRPr b="0" lang="en-US" sz="18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1527120" y="3046320"/>
            <a:ext cx="2385720" cy="527040"/>
            <a:chOff x="1527120" y="3046320"/>
            <a:chExt cx="2385720" cy="527040"/>
          </a:xfrm>
        </p:grpSpPr>
        <p:sp>
          <p:nvSpPr>
            <p:cNvPr id="115" name="矩形 22"/>
            <p:cNvSpPr/>
            <p:nvPr/>
          </p:nvSpPr>
          <p:spPr>
            <a:xfrm>
              <a:off x="1527120" y="3046320"/>
              <a:ext cx="1873080" cy="527040"/>
            </a:xfrm>
            <a:prstGeom prst="rect">
              <a:avLst/>
            </a:prstGeom>
            <a:solidFill>
              <a:srgbClr val="6096e6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13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情感目标</a:t>
              </a:r>
              <a:endParaRPr b="0" lang="en-US" sz="213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箭头: 右 1"/>
            <p:cNvSpPr/>
            <p:nvPr/>
          </p:nvSpPr>
          <p:spPr>
            <a:xfrm>
              <a:off x="3524400" y="3174480"/>
              <a:ext cx="388440" cy="287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solidFill>
                <a:srgbClr val="1d9ea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"/>
          <p:cNvSpPr/>
          <p:nvPr/>
        </p:nvSpPr>
        <p:spPr>
          <a:xfrm>
            <a:off x="335160" y="357120"/>
            <a:ext cx="489636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及其换算</a:t>
            </a:r>
            <a:r>
              <a:rPr b="0" lang="en-US" sz="2660" spc="-1" strike="noStrike">
                <a:solidFill>
                  <a:schemeClr val="lt1"/>
                </a:solidFill>
                <a:latin typeface="微软雅黑"/>
                <a:ea typeface="微软雅黑"/>
              </a:rPr>
              <a:t>--</a:t>
            </a:r>
            <a:r>
              <a:rPr b="0" lang="zh-CN" sz="2130" spc="-1" strike="noStrike">
                <a:solidFill>
                  <a:schemeClr val="lt1"/>
                </a:solidFill>
                <a:latin typeface="微软雅黑"/>
                <a:ea typeface="微软雅黑"/>
              </a:rPr>
              <a:t>知识简介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11"/>
          <p:cNvCxnSpPr/>
          <p:nvPr/>
        </p:nvCxnSpPr>
        <p:spPr>
          <a:xfrm>
            <a:off x="3731040" y="884520"/>
            <a:ext cx="8269200" cy="360"/>
          </a:xfrm>
          <a:prstGeom prst="straightConnector1">
            <a:avLst/>
          </a:prstGeom>
          <a:ln w="28575">
            <a:solidFill>
              <a:srgbClr val="6096e6"/>
            </a:solidFill>
          </a:ln>
        </p:spPr>
      </p:cxnSp>
      <p:sp>
        <p:nvSpPr>
          <p:cNvPr id="119" name="任意多边形: 形状 10"/>
          <p:cNvSpPr/>
          <p:nvPr/>
        </p:nvSpPr>
        <p:spPr>
          <a:xfrm rot="2700000">
            <a:off x="1011600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0" name="任意多边形: 形状 11"/>
          <p:cNvSpPr/>
          <p:nvPr/>
        </p:nvSpPr>
        <p:spPr>
          <a:xfrm rot="2700000">
            <a:off x="1071828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" name="任意多边形: 形状 12"/>
          <p:cNvSpPr/>
          <p:nvPr/>
        </p:nvSpPr>
        <p:spPr>
          <a:xfrm rot="2700000">
            <a:off x="11320560" y="595080"/>
            <a:ext cx="577080" cy="577080"/>
          </a:xfrm>
          <a:custGeom>
            <a:avLst/>
            <a:gdLst>
              <a:gd name="textAreaLeft" fmla="*/ 0 w 577080"/>
              <a:gd name="textAreaRight" fmla="*/ 577440 w 577080"/>
              <a:gd name="textAreaTop" fmla="*/ 0 h 577080"/>
              <a:gd name="textAreaBottom" fmla="*/ 577440 h 577080"/>
            </a:gdLst>
            <a:ahLst/>
            <a:rect l="textAreaLeft" t="textAreaTop" r="textAreaRight" b="textAreaBottom"/>
            <a:pathLst>
              <a:path w="542085" h="542085">
                <a:moveTo>
                  <a:pt x="29688" y="29687"/>
                </a:moveTo>
                <a:cubicBezTo>
                  <a:pt x="48030" y="11345"/>
                  <a:pt x="73370" y="0"/>
                  <a:pt x="101359" y="0"/>
                </a:cubicBezTo>
                <a:lnTo>
                  <a:pt x="506782" y="0"/>
                </a:lnTo>
                <a:lnTo>
                  <a:pt x="542085" y="7127"/>
                </a:lnTo>
                <a:lnTo>
                  <a:pt x="7127" y="542085"/>
                </a:lnTo>
                <a:lnTo>
                  <a:pt x="0" y="506782"/>
                </a:lnTo>
                <a:lnTo>
                  <a:pt x="0" y="101359"/>
                </a:lnTo>
                <a:cubicBezTo>
                  <a:pt x="0" y="73369"/>
                  <a:pt x="11345" y="48029"/>
                  <a:pt x="29688" y="29687"/>
                </a:cubicBezTo>
                <a:close/>
              </a:path>
            </a:pathLst>
          </a:custGeom>
          <a:solidFill>
            <a:schemeClr val="accent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" name="文本框 7"/>
          <p:cNvSpPr/>
          <p:nvPr/>
        </p:nvSpPr>
        <p:spPr>
          <a:xfrm>
            <a:off x="2063520" y="219528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1.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二进制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>
            <a:off x="2063520" y="277776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2.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十进制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2063520" y="328752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3.</a:t>
            </a: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八进制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2063520" y="375696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4.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十六进制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"/>
          <p:cNvSpPr/>
          <p:nvPr/>
        </p:nvSpPr>
        <p:spPr>
          <a:xfrm>
            <a:off x="2063520" y="425952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非十进制转换为十进制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"/>
          <p:cNvSpPr/>
          <p:nvPr/>
        </p:nvSpPr>
        <p:spPr>
          <a:xfrm>
            <a:off x="2063520" y="483444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1.</a:t>
            </a: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二进制数转换为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2063520" y="537120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2.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八进制数转换为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"/>
          <p:cNvSpPr/>
          <p:nvPr/>
        </p:nvSpPr>
        <p:spPr>
          <a:xfrm>
            <a:off x="2063520" y="590940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3.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十六进制数转换为十进制数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图片占位符 25"/>
          <p:cNvSpPr/>
          <p:nvPr/>
        </p:nvSpPr>
        <p:spPr>
          <a:xfrm>
            <a:off x="9861840" y="3404520"/>
            <a:ext cx="2589120" cy="2879640"/>
          </a:xfrm>
          <a:custGeom>
            <a:avLst/>
            <a:gdLst>
              <a:gd name="textAreaLeft" fmla="*/ 0 w 2589120"/>
              <a:gd name="textAreaRight" fmla="*/ 2589480 w 258912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3880643" h="4316073">
                <a:moveTo>
                  <a:pt x="2158037" y="0"/>
                </a:moveTo>
                <a:cubicBezTo>
                  <a:pt x="2302301" y="0"/>
                  <a:pt x="2446564" y="55034"/>
                  <a:pt x="2556633" y="165103"/>
                </a:cubicBezTo>
                <a:lnTo>
                  <a:pt x="3880643" y="1489113"/>
                </a:lnTo>
                <a:lnTo>
                  <a:pt x="3880643" y="2826959"/>
                </a:lnTo>
                <a:lnTo>
                  <a:pt x="2556634" y="4150970"/>
                </a:lnTo>
                <a:cubicBezTo>
                  <a:pt x="2336494" y="4371108"/>
                  <a:pt x="1979580" y="4371108"/>
                  <a:pt x="1759440" y="4150970"/>
                </a:cubicBezTo>
                <a:lnTo>
                  <a:pt x="165104" y="2556633"/>
                </a:lnTo>
                <a:cubicBezTo>
                  <a:pt x="-55034" y="2336494"/>
                  <a:pt x="-55034" y="1979579"/>
                  <a:pt x="165104" y="1759440"/>
                </a:cubicBezTo>
                <a:lnTo>
                  <a:pt x="1759441" y="165103"/>
                </a:lnTo>
                <a:cubicBezTo>
                  <a:pt x="1869511" y="55034"/>
                  <a:pt x="2013773" y="0"/>
                  <a:pt x="2158037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图片占位符 27"/>
          <p:cNvSpPr/>
          <p:nvPr/>
        </p:nvSpPr>
        <p:spPr>
          <a:xfrm>
            <a:off x="10825560" y="862200"/>
            <a:ext cx="1220400" cy="2879640"/>
          </a:xfrm>
          <a:custGeom>
            <a:avLst/>
            <a:gdLst>
              <a:gd name="textAreaLeft" fmla="*/ 0 w 1220400"/>
              <a:gd name="textAreaRight" fmla="*/ 1220760 w 122040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1301207" h="3069398">
                <a:moveTo>
                  <a:pt x="1301207" y="3069398"/>
                </a:moveTo>
                <a:lnTo>
                  <a:pt x="165104" y="1933295"/>
                </a:lnTo>
                <a:cubicBezTo>
                  <a:pt x="-55034" y="1713157"/>
                  <a:pt x="-55034" y="1356242"/>
                  <a:pt x="165104" y="1136103"/>
                </a:cubicBezTo>
                <a:lnTo>
                  <a:pt x="1301207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4"/>
          <p:cNvSpPr/>
          <p:nvPr/>
        </p:nvSpPr>
        <p:spPr>
          <a:xfrm flipV="1">
            <a:off x="1199160" y="6324480"/>
            <a:ext cx="10080000" cy="864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4320" bIns="432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3" name="文本框 7"/>
          <p:cNvSpPr/>
          <p:nvPr/>
        </p:nvSpPr>
        <p:spPr>
          <a:xfrm>
            <a:off x="2063520" y="113400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制定义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2063520" y="1665000"/>
            <a:ext cx="3936240" cy="41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</a:pPr>
            <a:r>
              <a:rPr b="0" lang="en-US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595959"/>
                </a:solidFill>
                <a:latin typeface="微软雅黑"/>
                <a:ea typeface="微软雅黑"/>
              </a:rPr>
              <a:t>常用的数制表示方式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及其换算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503280" y="1235160"/>
            <a:ext cx="11184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数制定义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制也称为计数制，是指用一组固定的符号和统一的规则来表示数值的方法。数制分为进位计数制和非进位计数制，目前计数方法一般采用进位计数制。在进位计数制中有数位、基数和位权三个要素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数位：是指数码在一个数中所处的位置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基数：是指每个数位上所能使用的数码的个数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位权：是指基数的幂，等于在这个数位上的数码乘上一个固定的数值，这个固定的数值就是该数位上的位权。数码所处的位置不同，代表数的大小也不同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9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38" name="直接连接符 10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39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40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41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142" name="图片 16" descr=""/>
          <p:cNvPicPr/>
          <p:nvPr/>
        </p:nvPicPr>
        <p:blipFill>
          <a:blip r:embed="rId1"/>
          <a:stretch/>
        </p:blipFill>
        <p:spPr>
          <a:xfrm flipH="1">
            <a:off x="10139400" y="4966200"/>
            <a:ext cx="2052720" cy="1891440"/>
          </a:xfrm>
          <a:prstGeom prst="rect">
            <a:avLst/>
          </a:prstGeom>
          <a:ln w="0">
            <a:noFill/>
          </a:ln>
        </p:spPr>
      </p:pic>
      <p:sp>
        <p:nvSpPr>
          <p:cNvPr id="143" name="Line 34"/>
          <p:cNvSpPr/>
          <p:nvPr/>
        </p:nvSpPr>
        <p:spPr>
          <a:xfrm>
            <a:off x="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5" descr=""/>
          <p:cNvPicPr/>
          <p:nvPr/>
        </p:nvPicPr>
        <p:blipFill>
          <a:blip r:embed="rId1"/>
          <a:stretch/>
        </p:blipFill>
        <p:spPr>
          <a:xfrm>
            <a:off x="0" y="4966200"/>
            <a:ext cx="2063880" cy="1891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503280" y="1235160"/>
            <a:ext cx="111848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常用数制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进制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Binary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技术中用得多的就是二进制，也是计算机能够识别的代码。二进制数有两个不同的数码符号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基数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进位原则是逢二进一，权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一般用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表示二进制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进制的优点：只有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代码，可以用较少的代码表示复杂的数据；运算简单，操作方便。 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局限性：由于只有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代码，当表示复杂数据时，必须用较多的位数，不利于人们的读取和记忆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9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48" name="直接连接符 10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49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50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51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52" name="Line 34"/>
          <p:cNvSpPr/>
          <p:nvPr/>
        </p:nvSpPr>
        <p:spPr>
          <a:xfrm>
            <a:off x="211176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0" y="4966200"/>
            <a:ext cx="2063880" cy="1891440"/>
          </a:xfrm>
          <a:prstGeom prst="rect">
            <a:avLst/>
          </a:prstGeom>
          <a:ln w="0">
            <a:noFill/>
          </a:ln>
        </p:spPr>
      </p:pic>
      <p:sp>
        <p:nvSpPr>
          <p:cNvPr id="154" name="矩形 2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"/>
          <p:cNvSpPr/>
          <p:nvPr/>
        </p:nvSpPr>
        <p:spPr>
          <a:xfrm>
            <a:off x="503280" y="1235160"/>
            <a:ext cx="11184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进制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Decimal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进位计数制简称十进制，也就是我们日常生活中经常使用的数字表示方式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进制数有十个不同的数码符号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计数时按“逢十进一”来决定其实际数值，权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即各数位的权是以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底的幂次方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用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表示十进制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9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57" name="直接连接符 10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58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59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60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61" name="Line 34"/>
          <p:cNvSpPr/>
          <p:nvPr/>
        </p:nvSpPr>
        <p:spPr>
          <a:xfrm>
            <a:off x="211176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5" descr=""/>
          <p:cNvPicPr/>
          <p:nvPr/>
        </p:nvPicPr>
        <p:blipFill>
          <a:blip r:embed="rId1"/>
          <a:stretch/>
        </p:blipFill>
        <p:spPr>
          <a:xfrm>
            <a:off x="0" y="4966200"/>
            <a:ext cx="2063880" cy="1891440"/>
          </a:xfrm>
          <a:prstGeom prst="rect">
            <a:avLst/>
          </a:prstGeom>
          <a:ln w="0">
            <a:noFill/>
          </a:ln>
        </p:spPr>
      </p:pic>
      <p:sp>
        <p:nvSpPr>
          <p:cNvPr id="163" name="矩形 2"/>
          <p:cNvSpPr/>
          <p:nvPr/>
        </p:nvSpPr>
        <p:spPr>
          <a:xfrm>
            <a:off x="335160" y="357120"/>
            <a:ext cx="4319640" cy="527040"/>
          </a:xfrm>
          <a:prstGeom prst="rect">
            <a:avLst/>
          </a:prstGeom>
          <a:solidFill>
            <a:srgbClr val="6096e6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1.2 </a:t>
            </a:r>
            <a:r>
              <a:rPr b="0" lang="zh-CN" sz="2660" spc="-1" strike="noStrike">
                <a:solidFill>
                  <a:schemeClr val="lt1"/>
                </a:solidFill>
                <a:latin typeface="方正粗黑宋简体"/>
                <a:ea typeface="方正粗黑宋简体"/>
              </a:rPr>
              <a:t>数制基础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"/>
          <p:cNvSpPr/>
          <p:nvPr/>
        </p:nvSpPr>
        <p:spPr>
          <a:xfrm>
            <a:off x="503280" y="1235160"/>
            <a:ext cx="111848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进制（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Octal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进位计数制简称八进制。八进制数有八个不同的数码符号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每个数码符号根据它在这个数中的数位，按“逢八进一”来决定其实际数值，权为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即各数位的权是以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底的幂次方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用</a:t>
            </a:r>
            <a:r>
              <a:rPr b="0" lang="en-US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0" lang="zh-CN" sz="213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表示八进制。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9"/>
          <p:cNvGrpSpPr/>
          <p:nvPr/>
        </p:nvGrpSpPr>
        <p:grpSpPr>
          <a:xfrm>
            <a:off x="3731040" y="475920"/>
            <a:ext cx="8286120" cy="816120"/>
            <a:chOff x="3731040" y="475920"/>
            <a:chExt cx="8286120" cy="816120"/>
          </a:xfrm>
        </p:grpSpPr>
        <p:cxnSp>
          <p:nvCxnSpPr>
            <p:cNvPr id="166" name="直接连接符 10"/>
            <p:cNvCxnSpPr/>
            <p:nvPr/>
          </p:nvCxnSpPr>
          <p:spPr>
            <a:xfrm>
              <a:off x="3731040" y="884520"/>
              <a:ext cx="8269200" cy="360"/>
            </a:xfrm>
            <a:prstGeom prst="straightConnector1">
              <a:avLst/>
            </a:prstGeom>
            <a:ln w="28575">
              <a:solidFill>
                <a:srgbClr val="6096e6"/>
              </a:solidFill>
            </a:ln>
          </p:spPr>
        </p:cxnSp>
        <p:sp>
          <p:nvSpPr>
            <p:cNvPr id="167" name="任意多边形: 形状 10"/>
            <p:cNvSpPr/>
            <p:nvPr/>
          </p:nvSpPr>
          <p:spPr>
            <a:xfrm rot="2700000">
              <a:off x="1011600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68" name="任意多边形: 形状 11"/>
            <p:cNvSpPr/>
            <p:nvPr/>
          </p:nvSpPr>
          <p:spPr>
            <a:xfrm rot="2700000">
              <a:off x="1071828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69" name="任意多边形: 形状 12"/>
            <p:cNvSpPr/>
            <p:nvPr/>
          </p:nvSpPr>
          <p:spPr>
            <a:xfrm rot="2700000">
              <a:off x="11320560" y="595080"/>
              <a:ext cx="577080" cy="5770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542085" h="542085">
                  <a:moveTo>
                    <a:pt x="29688" y="29687"/>
                  </a:moveTo>
                  <a:cubicBezTo>
                    <a:pt x="48030" y="11345"/>
                    <a:pt x="73370" y="0"/>
                    <a:pt x="101359" y="0"/>
                  </a:cubicBezTo>
                  <a:lnTo>
                    <a:pt x="506782" y="0"/>
                  </a:lnTo>
                  <a:lnTo>
                    <a:pt x="542085" y="7127"/>
                  </a:lnTo>
                  <a:lnTo>
                    <a:pt x="7127" y="542085"/>
                  </a:lnTo>
                  <a:lnTo>
                    <a:pt x="0" y="506782"/>
                  </a:lnTo>
                  <a:lnTo>
                    <a:pt x="0" y="101359"/>
                  </a:lnTo>
                  <a:cubicBezTo>
                    <a:pt x="0" y="73369"/>
                    <a:pt x="11345" y="48029"/>
                    <a:pt x="29688" y="29687"/>
                  </a:cubicBezTo>
                  <a:close/>
                </a:path>
              </a:pathLst>
            </a:custGeom>
            <a:solidFill>
              <a:schemeClr val="accent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70" name="Line 34"/>
          <p:cNvSpPr/>
          <p:nvPr/>
        </p:nvSpPr>
        <p:spPr>
          <a:xfrm>
            <a:off x="2111760" y="6453000"/>
            <a:ext cx="10080000" cy="47520"/>
          </a:xfrm>
          <a:prstGeom prst="line">
            <a:avLst/>
          </a:prstGeom>
          <a:ln w="19050">
            <a:solidFill>
              <a:srgbClr val="609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920" rIns="115920" tIns="23760" bIns="23760" anchor="ctr" anchorCtr="1">
            <a:noAutofit/>
          </a:bodyPr>
          <a:p>
            <a:endParaRPr b="0" lang="en-US" sz="226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主题​​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031</Words>
  <Paragraphs>1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/>
  <dc:description/>
  <dc:language>en-US</dc:language>
  <cp:lastModifiedBy>Administrator</cp:lastModifiedBy>
  <dcterms:modified xsi:type="dcterms:W3CDTF">2022-05-31T13:19:16Z</dcterms:modified>
  <cp:revision>1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E8921D386424061B2C0AF753CB6F2AA</vt:lpwstr>
  </property>
  <property fmtid="{D5CDD505-2E9C-101B-9397-08002B2CF9AE}" pid="3" name="KSOProductBuildVer">
    <vt:lpwstr>2052-11.1.0.11636</vt:lpwstr>
  </property>
  <property fmtid="{D5CDD505-2E9C-101B-9397-08002B2CF9AE}" pid="4" name="Notes">
    <vt:r8>4</vt:r8>
  </property>
  <property fmtid="{D5CDD505-2E9C-101B-9397-08002B2CF9AE}" pid="5" name="PresentationFormat">
    <vt:lpwstr>宽屏</vt:lpwstr>
  </property>
  <property fmtid="{D5CDD505-2E9C-101B-9397-08002B2CF9AE}" pid="6" name="Slides">
    <vt:r8>18</vt:r8>
  </property>
</Properties>
</file>